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954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5181120" y="0"/>
            <a:ext cx="3954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2857680" y="514080"/>
            <a:ext cx="3420720" cy="256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69744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54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54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3EFC3-FFBF-401A-8B35-6982002B6D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8576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ckground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quito from poster?  GMOD gears? GMOD Gears + GMO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392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atrick Phillips donates office space for the help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8576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857680" y="514440"/>
            <a:ext cx="3425760" cy="256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BF3A-334A-46D7-913B-366612A39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6448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669120"/>
            <a:ext cx="776448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5906-6D06-4CC5-82A4-6AD5CAB1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520" y="15238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66912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520" y="366912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27A8-9618-476E-AFE9-6EFE286F3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0920" y="152388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400" y="152388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66912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0920" y="366912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400" y="366912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4D54-94C9-413E-B02B-DB9BA4025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64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6CF5-261B-4874-9AC4-5983DDFE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64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0F32-CC05-4EBC-A8B0-07C075F2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890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520" y="1523880"/>
            <a:ext cx="37890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27D1-8681-4344-A37E-15D163A8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8C69-5FCC-40C3-A125-ED4FC4D9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9200"/>
            <a:ext cx="77644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F1F6-E9E7-40D9-81D8-F200A084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520" y="1523880"/>
            <a:ext cx="37890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66912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EC84-1921-4233-AA2D-1D008D12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890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520" y="15238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520" y="366912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A109-22F1-4B82-8589-6002EC59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520" y="15238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69120"/>
            <a:ext cx="776448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C6AD-7793-4D7A-8710-E283463A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64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DCBEE-1382-40AC-9292-9FB9DDE4184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320" y="6129360"/>
            <a:ext cx="914400" cy="67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amtools.sourceforge.net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32000"/>
            <a:ext cx="77724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MOD Meet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gust 6-7,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ford, 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7440" y="5427720"/>
            <a:ext cx="2322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ott Cain, Ph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MOD Project Coordin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ntario Institute f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ncer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ott@scottcai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2240" y="268200"/>
            <a:ext cx="1712880" cy="1260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52920" y="5514840"/>
            <a:ext cx="2019240" cy="9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09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Gen Sequ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09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-331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ed in GBrowse2; GBrowse1 may work with some finag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SAM/BAM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560" indent="-275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samtools.sourceforge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age XY-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dence density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alig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Paired 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63360"/>
            <a:ext cx="77709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M/S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6315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8840"/>
            <a:ext cx="7770960" cy="14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upal/Tri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36240"/>
            <a:ext cx="7770960" cy="52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pal: Widely used CMS, ver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pal is a set of modules for Drupal to interact with a Chado data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ntegrate GBrowse/C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es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63360"/>
            <a:ext cx="77709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upal/Tri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14360" y="1190520"/>
            <a:ext cx="8354880" cy="566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895480" y="3271680"/>
            <a:ext cx="3846600" cy="2830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52920" y="1430280"/>
            <a:ext cx="196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SHL/OI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coln 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don McK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84720" y="2382840"/>
            <a:ext cx="17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an Hol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ch Sk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57680" y="26226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emson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hen Fick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4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interoperable tools for managing, annotating, and viewing genomic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Browse - genome 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ollo - genome annotation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ap - comparative mapping 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bil and GBrowse_syn - comparative genomics vie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 many other t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community of users and develo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ing lists, semi-annual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52680" y="457200"/>
            <a:ext cx="425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GMO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09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'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09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browse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Browse (formerly GBrowse 3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Gen sequencing support for GBrow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pal/Dru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09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09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end rearchitectur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databases and render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AX track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configuration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270080"/>
            <a:ext cx="9144000" cy="46735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77400"/>
            <a:ext cx="77691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09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row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09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complete re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AJAX for client side rendering, Google Maps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gmod.org/wiki/JBrow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7400"/>
            <a:ext cx="776592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4360" indent="-682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with GBrowse 1.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use of data adaptors/databases that GBrowse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7400"/>
            <a:ext cx="776592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400" y="1625760"/>
            <a:ext cx="9144000" cy="357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8840"/>
            <a:ext cx="7770960" cy="14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row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81200" y="1403280"/>
            <a:ext cx="7619760" cy="4734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MOD / NESCent</dc:creator>
  <dc:description/>
  <dc:language>en-US</dc:language>
  <cp:lastModifiedBy>GMOD / NESCent</cp:lastModifiedBy>
  <cp:revision>0</cp:revision>
  <dc:subject/>
  <dc:title>PowerPoint Presentation</dc:title>
</cp:coreProperties>
</file>